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83B-25B9-476C-B515-C2463B3D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846-81BB-4F9B-8397-EFE4F605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9B2AD-B820-4574-87A8-DADA1826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8642D-BA89-43C3-B5B8-C9D3963E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63210-15FD-4390-8332-B27A2B34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72FDC-DA23-468A-83C6-6428AC1F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BA779-C27C-4E9F-94DD-5672044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02E13-2232-4D68-8807-5B2A71C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57F1D-C784-4E6E-9F36-08B915B9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9E871-BE2F-4813-83F7-E5E2E6F0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0BF57-063B-4B66-B8D1-73AA9448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046A7-E6C6-4DC4-840D-6E2B209C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845-4833-46AC-84AB-347E8430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79A88-1C30-4B58-A4C7-C6B4F1F6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F3D63-2AE6-40F7-A725-C92288CB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B92F0-1E57-410B-AF6D-85B6C55C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F6FA9-2CFE-458D-BEFF-793EE1B4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F20CF-7FD5-46EF-9D17-61E57E55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6469E-0D6E-41FD-9A3D-7065AB8B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03052-CA9C-4F54-B69A-13E1D3BD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2AE7A-6E12-42A0-B9B9-950397C2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9CE3D-C105-4CBC-871B-E5B065B7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158F9-B34D-490E-B138-4E748BCA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EB4-145A-4740-855A-96C637BF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91BA7-B64F-4682-A591-3166B6A3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A243A-1ECE-46EF-AACE-3CECB26F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36766-5742-4B92-8E4F-06DE202F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5AE60-AF1A-4C8A-8044-31B4E7DC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65D95-9C86-4F6E-A228-A9630A80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EB296-A65F-44AA-AEA5-C8DEE0BE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9CDA3-7DEF-40AC-A3F2-58EA852F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8DD4E-4291-4CB9-A950-0A2E857B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06A38-8B68-4710-A8AA-229320E0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F6E63-4225-43EA-B905-0BCBFD41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9C91-3F62-46CB-B2C4-953AAEC3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A060A-43BA-4729-B1CE-B02A8462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BA002-667F-45B4-80D4-3E17B601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F7B40-1FE8-484F-97A3-A6FB812C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32A44-46D7-422B-8B60-6FCA0F45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45943-9913-4623-897A-54246F37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41468-1435-4282-B53B-0930790C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17B9E-27DB-4BDB-AB29-BA7F088F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08180-DCFF-4051-A390-35BABE57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CB242-B055-49EE-8FC0-25627383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39A81-9BFF-4929-A53A-7AB6CAB6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B2DA-4A0D-4771-9817-CFD7FEA0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A0E58-B9BF-4634-95E7-30C6828A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C6929-E142-4E5A-9646-56AD958E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CFFD8-6A6E-41D0-924A-EE966FD1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1371C-7274-4545-B97F-4249D09F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E5BBA-A05B-4823-85F8-723EB908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F7514-49F6-4542-96FE-DFCD27D0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0A1B6-1665-4646-B290-ECCCF723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574F4-A70B-409E-A044-AB0B240D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9735C-506F-4C8E-AFA3-D74E8FE8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7B257-1C23-43EC-BA91-8BCE97E8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51D7-3A7A-4BBD-9134-0712CEEE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8CE1EF-0E51-47AB-8A1B-06A09D67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071F1-BDE2-42A4-992F-78355277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0549E-C85A-4D7A-9DE4-44D35FF7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2F801-D102-4070-929C-7B9F16EC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2AB7F-D6D9-4F7C-A802-7A255A75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A07E2-CF5B-4D8A-A614-841DDC58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FB816-F057-430E-8331-4D7BA8DA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A9581-4197-4527-A996-2D71206C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B7DE7-4AAA-487A-B1B5-87069BF8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BA543-DAA3-4388-BF44-BE94BBC5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7C67-B4E0-4D63-8FAC-6373022B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F8CA0-6F58-440E-B426-54B6DFBA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0C8D8-D914-4997-A3BE-0CC75E0F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E00290-5939-429F-971E-9A1D87C9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81BBA-3399-4D3B-BAB9-80E52286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5269C-3F9E-47E7-A4ED-E959308C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9C4DB-5E44-4E53-B31C-E4F0CEA1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49A1D-507A-4779-AE16-9003D306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B4B67-37E4-4F01-A6B1-E7D48E12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69E7A-2EC6-4258-BBEB-EBE4F49C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EB25E-D08E-4DC4-853D-2B38D6C8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3ED1-B194-4477-BFC8-A0997F1F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53474-9BB9-4F4B-85BD-00BE02E5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F151BF-96AC-43CD-8A85-5D9EC28B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DFB50-B870-4AAC-AB52-5F6A0A45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843ED3-3917-498D-BD29-C2505C2C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478B1-4FCF-49BF-8226-EA32DA00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411E7-0F35-4425-B6C0-5171F115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5F183-B3F6-402C-AAC5-DB460098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7C927-3E30-4D67-BC6E-38360447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F1957-999B-426E-8F62-903754C6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0E9A8-405D-4D3A-8C17-91147EAD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2E61-6D92-4DBD-9FB3-7CBB597E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45A0C-448E-44D0-9917-3C09B20D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85F570-9997-40BD-922C-6E96A5AA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57E918-22DE-4431-BAC6-66A27390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125FCD-C85C-46D3-A11C-77FDCE2C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35D28-C495-47FB-9FCB-20D61D02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159F7-AB8B-4B05-9D78-5A38D8D2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64D1E-4459-4D17-B52A-70B80FCD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F0987-24FC-4A31-B2F0-C988A0C9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F94F3-42DC-4B32-B145-7D82C4E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5A403-6D89-4E37-A104-158010E0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E65A-870E-4D3B-8D51-4F95F478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389F0-F86F-4285-8225-772CEC54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7FF91-9E45-4E28-AE0C-EF7E11F0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46348-566D-4897-89FB-0A901A4B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DBCC6-1F45-4525-8EB5-F063B7B0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8B140-2038-4B7C-9854-9DAEA005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A98B2-20C5-48B5-A084-D6A91371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7BCDD-3A4A-4D96-9C2F-0981906D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C215F-80C7-4715-B1C7-9B712610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93651-A237-4148-ADAF-5C64217B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74923-5A52-4CCB-A663-CBBB28A8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484-B16C-47C1-B0C8-7C8C5E3B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7FEA-1FF9-4FC9-A357-0177774C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CE46A-189E-4059-9CC4-E062D874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49AA3-D7AC-4D6F-A69D-EA3CCA3D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00206A-AF75-47ED-B6E6-1DF281F4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A3454-5AB7-42B6-AA7A-723A4396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FA70F8-3D2F-4826-8CCE-04FC6519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054D39-8550-4A55-91C1-7B94D2CB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35748-F3B3-4C21-8C5E-09D1DE64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A2A2A6-80EB-426B-BFB6-00E5EA2E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B0B278-102A-441B-AE8B-02C85E12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337875-E0B7-4CCC-A5B2-BEA3026B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2034-506B-474E-A425-50C6870D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637BD4-8527-4C35-8034-8BF24BEA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5B6210-555F-4DB3-9E2F-FB14AF2A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626B5-EA7F-4785-B9E4-3AB822DF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2ED5C-2F00-4247-BCEC-13CE7AFC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709A60-5094-4E36-843A-2281BB36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523B03-8786-49DC-ABD3-4A81CF63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6A4350-C515-4541-BF4D-B55A0083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520730-FC7F-49DE-9292-4B07A06A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26089-571E-468B-96DF-33691B96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676CE-2B38-41D4-AC63-A9DB5BD1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5B4A-842E-4DBC-8CED-E34F5AA4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319D9-760F-436A-B42A-0AF962FA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B9861C-FDC2-421E-BA91-C6DD6A9F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8C5265-7F96-4F99-A301-BB3DE73A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752A32-C184-4CA7-9DBD-82FF6FB1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844141-CE7A-4583-81A2-706873B5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BCC3D2-E52B-4322-A2DA-4BE376FF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EFCF7-B709-4F32-9E0E-2B7D8728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AAE635-5037-4EEC-8AED-198EF7BB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06AE4F-BD90-455E-9256-CB79BFFA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79CEB7-6BC2-44DF-B43B-A2A4A2D5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B680-B530-4898-8D37-E4CFFB9C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D94442-5799-4084-A74A-8E79598B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44479D-5169-46DD-8CD7-B2AC23EF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010DF1-700D-4BCF-9DED-A5A68333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889922-806C-4C1E-B99C-212374EE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71CDB2-2A12-48FE-ACFD-68D0737A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A582AB-2ABC-40B9-9828-A889DD6A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BDE1A-9F3A-4AEB-939E-D869F03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9B96F1-99AF-44D3-9AAC-09123951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7A43B5-0904-4720-8D90-B36B3C8C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C1AEA-1695-44B4-8211-3A4D1815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CE6A-3E2C-4621-91B6-84BA5693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0C742E-0C9E-488F-A972-FA79BA96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0BB5DE-1D77-4BE5-BFAC-47FD91EE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B13BC-5873-40CC-A435-6627D263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D34BEE-291F-497C-AFC4-0E29FB92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123FE5-D262-430E-B075-120BC858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79D948-FBFE-4558-9231-5A9C2FAB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C6107D-96D1-475A-A6F6-129CA039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7303C4-A324-4D8D-B68E-1FC6A0B7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80D869-86CA-4CFE-B061-1BAA8AA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9CF5AE-AA93-4E88-A5AB-EC76BE74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B2F53-FF36-4F87-9DA3-1B68BAC6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7B128C-20B1-4BE2-98C4-C5C0A7EF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E6DB15-BC09-4F0C-9DF9-81DFECDA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33D44B-EBEC-4CC5-BFEB-03827E24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D672-14AE-455B-9A28-528CEE4C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B020-78E3-40F3-9331-D0CEBB92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AA7A-97D4-4A92-9F6C-736CBCE5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016C-E8D4-4DA0-BA3B-5EC000E8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F11-BA50-47E2-83BF-A4DA86D8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5492-6998-43E7-8F8B-F2BC4FC2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602F-87F1-45CD-BF9D-848FAAEF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F580-A759-484F-9F23-2C8C4C03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3ED2-BA4E-45A9-9B77-8443C3C1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BED4-6C3F-4D2E-A958-16FA8B4A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3C4A-92A7-4759-8945-F2FCAC48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FFE2-204E-43A4-85AD-C05D3960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539E-00D1-495A-9BBE-FF4881A8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1FC9-9857-480C-9E8D-AF9BD527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1FCD8-82A9-4B8C-BABD-CD308BF2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B70-3C33-4B84-AD36-A8E1176B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E66BA-E6E8-4276-9F29-C7526B3D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F274C-7FE1-43F5-A56A-6A8482B0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980C5-54C6-46D7-BBA3-8B708151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09D32-6591-40F5-A82B-092C983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ABDF7-2D10-4C83-A291-7C25ABDB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B60A6-60BE-4989-A2B3-1C69589F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68F4-56AF-41A4-AB7D-42C769DD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CFEAC-3FE3-435D-B459-D2E524D7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5F2CF-4B63-460E-AD55-BE7EA79D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9685D-851C-4DAE-A42A-261E5CA2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D58-BAB3-4DBF-9305-9A3036F3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71F03-28C7-47C7-878B-D957417D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99A83-C0AA-4124-AB13-DA7AA775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F546C-1639-475E-9BD8-5E331C2A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B479B-CB05-4D9E-A0D3-A83F6651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42569-D89C-4CEE-9BE1-B36ED8E0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76873-951C-4059-BF4B-979CE7C0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6B047-4E54-4728-8E32-5FC70DA4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83F20-C92E-43F7-B80F-DB8FC104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A879E-193D-4188-AAF4-79C50387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A70CC-EE37-4064-BA7D-E26D7E70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791-60D0-46EA-AD64-FE5BA540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96A8D-DCAB-4ED8-8AF1-F3C023D2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F4D44-0B74-4121-8772-85257FE3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A6CEB-CAA1-47BD-9CCA-223CB65A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2DA3A-6B43-4B2E-94E8-BBBAC799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4C191-3315-467D-9DB3-5DDF05A3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41AD3-C895-4CDB-8F2A-7416B0C3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F0C1E-52BC-4001-80BC-6030BFC4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BBD1-D5CF-44BD-BA3E-C1E97567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C035F-A424-4395-9ECD-D3537252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4DB80-7443-49C8-94E8-5817671F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E4C-5A0F-4686-AB00-7D385CFA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F3E52-74D6-47A9-859A-4532AF5E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6F3EC-1D79-4E2B-98C2-11C4969D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3521E-EED5-4FDD-9024-25CFE31F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DA8AE-CE09-4F7C-918D-CE3ED29E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732EC-DBA8-4A3E-B668-2D5906FE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EC7BA-D1C6-4222-98C3-37290EE6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ED920-B395-49C3-8852-FD5DBB41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A680F-5B8C-4917-8EBD-BFE32FB7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2E3D0-9EF8-46FC-8ACD-ABBC4474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75785-0548-4288-B461-F33369BE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EF6-F6AC-48FE-8EDF-7FF17E0D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AAF1C-F36C-48FC-BF19-0B02106F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E21AF-1327-49F3-B8F6-12FCFE67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8AD94-1807-4383-8105-7E5D42CA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70D42-2660-4F1B-B70F-5F128DDE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AAA46-EDE6-4E23-AF03-3C3EE05F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61C2F-C087-4F7B-BB6A-A1985FC3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49425-63E6-41E7-B2EC-19F1AE45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8575E-3B46-4723-B389-70C524E2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D07F6-F92F-4926-9685-4AFC112E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28AEA-8E6A-4D3A-B6F5-BC11222C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754-565E-4D0B-AB83-FF5EE819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D51F9-AA9C-4157-B891-1BB14977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98C00-CF6C-498C-B415-E4F7DC14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3E44D-1E83-4FEA-A1D0-055CB301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31139-AF19-4A5B-8F8E-C01804FC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44946-0C3E-4C98-A8DD-E94E3B2E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E3FFF-2806-4295-9C5F-56445704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516F1-AA81-479A-B9EA-97C1DF8B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00E1F-194B-43B5-8B92-599CA6A4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16060-CC04-4C25-8D4B-0453A913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26F7B-F354-479D-BE92-A3A08EB5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3E7E-B62D-447D-8CDF-95FE3862A0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E4A6-B619-4A73-BCA5-FCDB1E2254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1D1A-8A5C-4AF4-A0D3-9CE9998F70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9428-AB02-40CA-806B-992EDE37DC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175F-7AEC-4C34-AEEE-1BB621177E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7605-9F6E-41A0-A6F5-5A16A62B43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043D-A93C-4B39-B792-2DA80D75CC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E5D-F9F3-4EB3-B25D-67E2D442AD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2E39-7FD2-4759-AB1D-52094041E6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CD76-75A5-45CF-B72E-448EB9DBE8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990F-1339-4108-B04F-6E471825DA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0AE4-4B8D-4EBB-BE1D-4070EA3F37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BF87-97AC-4C84-A019-BBE188B5DD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3029-4E3E-49A8-A63B-F3749D1D89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CC48-D68F-450B-BDDE-85CCF01BA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1C09-A208-47E5-921F-4208299058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0F27-5310-45B9-979B-36A684D282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9448-6E06-4081-AB72-7B3235A97A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2D56-FDC9-4928-9FDA-048F18782A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5AFE-9DF1-40AB-BDAF-3CF8D20B95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6A08-CCB4-4A69-9AD4-3BF95C911E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C00E-1321-4181-9341-61FBCA8323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EA6E-58A0-438D-8E1B-FF90A673F5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90C8-1BC8-4A5F-A896-3C98CA9E6F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96A0-BCEF-46BB-B022-D96D47B437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E46F-8774-47FF-8D19-041951588A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92B0-D34C-42CF-ACF2-4E18F8601B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CD8D-3B82-48C0-8E9C-C245158294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D7A6-34EB-4DD6-97E2-C786AB4A37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9C52-A7EC-4A8B-8136-97C28DE74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0944-9543-408D-96B7-0BBFC2A411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0404-1753-49EC-A727-25C7D0E669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0654-77C7-4D98-B899-AE6AF19D23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008F-49E1-49AA-8B17-3B0390984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29E0-8B73-4705-91B9-50A2304974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ACCB-CA7C-47A7-ADD1-FBFE70FD3F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3E43-AE50-4BB6-853F-20F7B028E1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BAE4-AC46-4B15-8CFB-47E3235A86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E486-41E3-44CC-9ED6-4A532676B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E1CA-2A7F-4C23-BF04-C4B9EB7621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271680" y="1916280"/>
            <a:ext cx="2600640" cy="8665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71440" y="3228840"/>
            <a:ext cx="86011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1104840" y="1052640"/>
            <a:ext cx="6934320" cy="227628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69634" descr=""/>
          <p:cNvPicPr/>
          <p:nvPr/>
        </p:nvPicPr>
        <p:blipFill>
          <a:blip r:embed="rId2"/>
          <a:stretch/>
        </p:blipFill>
        <p:spPr>
          <a:xfrm>
            <a:off x="714240" y="3705120"/>
            <a:ext cx="7715520" cy="21718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4327560" y="158580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4500720" y="2276640"/>
            <a:ext cx="74916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7093080" y="1557360"/>
            <a:ext cx="74916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7294680" y="234936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2124000" y="4206960"/>
            <a:ext cx="74952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8"/>
          <a:stretch/>
        </p:blipFill>
        <p:spPr>
          <a:xfrm>
            <a:off x="2311560" y="494172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9"/>
          <a:stretch/>
        </p:blipFill>
        <p:spPr>
          <a:xfrm>
            <a:off x="4859280" y="4149720"/>
            <a:ext cx="74952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0"/>
          <a:stretch/>
        </p:blipFill>
        <p:spPr>
          <a:xfrm>
            <a:off x="5076720" y="4869000"/>
            <a:ext cx="74952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1"/>
          <a:stretch/>
        </p:blipFill>
        <p:spPr>
          <a:xfrm>
            <a:off x="7667640" y="4149720"/>
            <a:ext cx="74916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2"/>
          <a:stretch/>
        </p:blipFill>
        <p:spPr>
          <a:xfrm>
            <a:off x="7667640" y="4941720"/>
            <a:ext cx="749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90520" y="838080"/>
            <a:ext cx="8562960" cy="5686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979640" y="227664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659640" y="232092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268360" y="35733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6516720" y="35002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1979640" y="479736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6848640" y="4853160"/>
            <a:ext cx="8632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2916360" y="6093000"/>
            <a:ext cx="86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309600" y="1166760"/>
            <a:ext cx="8524800" cy="4524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4572000" y="4897440"/>
            <a:ext cx="115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614520" y="1976400"/>
            <a:ext cx="7914960" cy="29052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3203640" y="33861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6054840" y="42498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285840" y="266760"/>
            <a:ext cx="8572320" cy="6324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439272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763640" y="6064200"/>
            <a:ext cx="439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组合 56326"/>
          <p:cNvGrpSpPr/>
          <p:nvPr/>
        </p:nvGrpSpPr>
        <p:grpSpPr>
          <a:xfrm>
            <a:off x="363600" y="115920"/>
            <a:ext cx="8601120" cy="6626160"/>
            <a:chOff x="363600" y="115920"/>
            <a:chExt cx="8601120" cy="6626160"/>
          </a:xfrm>
        </p:grpSpPr>
        <p:pic>
          <p:nvPicPr>
            <p:cNvPr id="943" name="图片 56324" descr=""/>
            <p:cNvPicPr/>
            <p:nvPr/>
          </p:nvPicPr>
          <p:blipFill>
            <a:blip r:embed="rId1"/>
            <a:stretch/>
          </p:blipFill>
          <p:spPr>
            <a:xfrm>
              <a:off x="662040" y="760320"/>
              <a:ext cx="781992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图片 56325" descr=""/>
            <p:cNvPicPr/>
            <p:nvPr/>
          </p:nvPicPr>
          <p:blipFill>
            <a:blip r:embed="rId2"/>
            <a:stretch/>
          </p:blipFill>
          <p:spPr>
            <a:xfrm>
              <a:off x="363600" y="115920"/>
              <a:ext cx="8601120" cy="60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5940360" y="3486240"/>
            <a:ext cx="201636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5940360" y="4351320"/>
            <a:ext cx="201636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6012000" y="5200560"/>
            <a:ext cx="201600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6012000" y="6049800"/>
            <a:ext cx="201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271440" y="1333440"/>
            <a:ext cx="8601120" cy="41911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4211640" y="4869000"/>
            <a:ext cx="316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576360" y="1590840"/>
            <a:ext cx="7991280" cy="3676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3851280" y="26510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3780000" y="4653000"/>
            <a:ext cx="31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276120" y="871560"/>
            <a:ext cx="8591760" cy="55818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2050920" y="3429000"/>
            <a:ext cx="86544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4572000" y="4278240"/>
            <a:ext cx="237636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2050920" y="5070600"/>
            <a:ext cx="86544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5292720" y="5877000"/>
            <a:ext cx="237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0:46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